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4E5-319F-478F-A136-747DB5BB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55D0-2C5D-46D1-B767-1296B80C6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A198-A419-409F-ACE9-3B5BCD875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627-5F41-442F-AEF3-92BE08197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5057-4CF5-40EC-968F-A76E3D17B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5E9D-EBF0-4BDF-885D-289960CC9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107F-A348-4837-882A-8EE7FB343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78E4-3291-4AD7-AAE5-FCCA3757D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D75-0821-4EF9-B6A6-38124A8EC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5E8-C11E-4D54-8CCE-7255ED432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6885-5767-4335-91DD-04FA25B99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FF4-DB16-4CED-B10E-9C0998D17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05E-B5CD-44D9-BB0E-D26EB5EEB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D94-C651-477A-9F46-3F178C20E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751-24A6-4A99-8A5D-E346664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8B9-F78D-41AF-9C6D-745AC1F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36C-AA9B-4EB0-B990-300260FD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7B0-EB60-4F99-B64D-FBA12726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8A2-C87D-4E58-85C4-321C6084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71CC-7BA8-459F-836F-8A81324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2163-7650-4DC7-A6D1-FF37E66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828E-F604-456B-BF6D-63F62753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689-17F5-46DF-A055-FDFAEAB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C561-8D41-448A-8AA6-DE8CC14F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3B67-CA15-45C4-82CA-1CFB1E9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B77-171E-4DDF-9F12-6660192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4BC4-39E6-499C-A42C-37FCB17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D266-9F27-4B10-87DA-839D2BD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3F98-E63B-486A-9997-CC6AC65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F14-DB5C-44A1-A5D2-047D967E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7DCA-C785-4E09-BEB2-37E66CCD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AA2-2630-47C5-9450-CA6E127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0CA-E17B-43E6-8561-05B19124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BA7-9F8C-474A-B1F5-3F9F18E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2A0-DF87-4DE0-833C-662F996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F56-FB68-4968-A1F7-E3C76FE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5DA-599B-4EEF-AA10-7D599F2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FBA-3CBB-4792-9AB0-845E8AE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2C6-2275-43C1-8A0A-0C19D2AF4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4F0E-FFB7-42F1-B993-486DDD216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british.edu.uy/it_dept/itgs/graphics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Graph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Graphics issu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itor vs. Printe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 digitalis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o replicate works of 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he violation of intellectual property (OC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omputer Aided Design (CAD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the use of computers to design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d mainly by engineers, designers and archit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help to visualize the product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prevent design error, therefore preventing serious catastrop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take very much less time to design a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lower the costs as the designer can avoid buying experimental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AD...some disadvantag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skilled designers can build design-poor products that may cause future acci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may require lots of storage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esign may turn too complex and have desig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limited to the drawing skills of the CAD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omputer Aided Manufacture (CAM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M systems are sometimes integrated with a computer-aided design system (CA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ry useful for circuit desig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x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for “Picture El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single dot on a monitor or printed documen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smallest rectangular area of an image that can be manipulated on a monitor or printer, or stored in memor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ixel has a unique associated col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xel colours/sh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ixel shows only one colour at a given instant, but the possible colours may vary according to the number of bits we assign to each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assign a single bit (1 or 0) to a pixel we can give that pixel only two col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assign two bits to a pixel we can give that pixel four colours (00,01,10,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More colours / sh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066680"/>
          <a:ext cx="7772400" cy="5029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 per pix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ifferent col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MX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ctures &amp; Forma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icture is a set of pixels of different colours placed in a particular patter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ctures must be saved to disks as a sequence of bits. There are several ways of translating a picture to a series of bits. This will give name to the format of the image fi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of them highly compress the image (JPEG, GIF) occupying less space and some of them not so much (BM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: JPEG, GIF, BMP, TIFF, WPG, PIC,P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Another graphic format distin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aphic file formats can b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ixeled or Bitmap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-oriented (or vector bas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Object-Oriented vs. Bitmapp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ce157"/>
                </a:solidFill>
                <a:uFillTx/>
                <a:latin typeface="Arial"/>
              </a:rPr>
              <a:t>Object 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tored as a series of lines or ve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smooth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enlarged without any loss of image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very good for photographs or complex pictures (they occupy too mu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ce157"/>
                </a:solidFill>
                <a:uFillTx/>
                <a:latin typeface="Arial"/>
              </a:rPr>
              <a:t>Bitma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tored as pixels at given coord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sharp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not be enlarged without loss of image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graphs and complex images can perfectly be stored (and compressed to a reasonable ext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64911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other comparison chart can be found in </a:t>
            </a:r>
            <a:r>
              <a:rPr b="0" lang="es-MX" sz="1800" spc="-1" strike="noStrike" u="sng">
                <a:solidFill>
                  <a:srgbClr val="f98d43"/>
                </a:solidFill>
                <a:uFillTx/>
                <a:latin typeface="Times New Roman"/>
                <a:hlinkClick r:id="rId9"/>
              </a:rPr>
              <a:t>www.british.edu.uy/it_dept/itgs/graphic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Quality vs. Storage sp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228600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905120" y="57150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2743200" y="2666880"/>
            <a:ext cx="3505320" cy="2438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698800" y="568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torage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90360" y="1981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Drawing vs. Painting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rawing software manages ob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ainting software manages bit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6:24:21Z</dcterms:created>
  <dc:creator>Maximo Gurmendez</dc:creator>
  <dc:description/>
  <dc:language>en-US</dc:language>
  <cp:lastModifiedBy>pienaark</cp:lastModifiedBy>
  <dcterms:modified xsi:type="dcterms:W3CDTF">2008-10-11T04:42:37Z</dcterms:modified>
  <cp:revision>10</cp:revision>
  <dc:subject/>
  <dc:title>Graphics</dc:title>
</cp:coreProperties>
</file>